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E30-63C1-4463-8D16-FEC914BF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C37-3028-4E94-B29D-57C5828F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D9C-8C23-4C4B-A338-FF295A8F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37F-6313-4F0C-8F4D-88EC892E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2B57-2696-4408-AD81-416822D7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D644-AB2A-4A14-8807-A058DFC5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F438-24B2-4F99-9535-8C4A7024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11D4-7A98-40AA-AF4D-BB50DC1E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D8F0-1FED-42DA-AA4B-387617E9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9075-8ED8-4FB4-87BB-A6689580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7FC2-BC50-48ED-8712-84D75478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9D6-6867-46B5-8A03-C4CE6772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B3E6-1C13-4118-99FA-FDDABF3F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20F5-79FE-46C0-96D9-F7DFAB4B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3BC0-5EFC-4139-992D-688581A2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5366-5E76-4D3A-BD67-C90735E7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38B0-53E6-429F-B0CF-1B3C923C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745-FB0D-4743-AA2D-AE580C67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933-CCD7-4D88-877C-4B742EAB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9C1-BB02-4F70-A842-1E2A10A9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86F-6A5C-46E3-B457-22C8FD2D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501-5F10-4B5A-AE82-9ACBAE3A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5EC-1A63-4CE5-A7C6-E5272BCC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D5B-FFC3-4797-A4C1-EB8CB9C5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BA86-5643-428F-ACA0-0044A90448A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90A7-4472-42A5-AF54-31CD119F5F0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ideon and the Midianites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Judges 6:1 – 8: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3; Lesson 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68-7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429000"/>
            <a:ext cx="8076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dianites Gather Against Isra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:33-3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dianites, and others east of Jordan, came across the Jordan to the valley of Jezreel, v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pirit of the Lord came upon Gideon and he blew the “call” trumpet, v3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, Manasseh and other northern tribes met Gideon, v3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114800" cy="2664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380880" y="2971800"/>
            <a:ext cx="31528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lboa View of Jezree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267080" y="228600"/>
            <a:ext cx="4673880" cy="3490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343400" y="38098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arod Valley of Jezre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28600" y="3395520"/>
            <a:ext cx="3638520" cy="34624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4648320" y="4194000"/>
            <a:ext cx="3657600" cy="2664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80880" y="990720"/>
            <a:ext cx="1676520" cy="5486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7162920" y="1676520"/>
            <a:ext cx="1371600" cy="4114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d Gives Gideon Sig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confirmation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ould save Israel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6:36-4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spoke to Go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ill put a fleece of wool on the flo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rst sig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If dew is on the fleece but not on the flo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sig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If dew is on the floor but not on t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4270320" cy="28224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Prepares His Ar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7:1-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rted with 32,000 men in his arm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said he had too many men, v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00 Men And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Prepares His Ar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lessons do we learn from these numbers and these test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Romans 8:3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parations For The Attac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7:9-18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told to go to the Midianite camp and listen, v9-1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built up his confidence, v13-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n, his strategy, v16-1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told his army: “Do as I do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24004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attle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(7:19-2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s army followed his instructions 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ttacked after the night watch chang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ew the trumpe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oke the pitchers revealing the lam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ed, “The sword of the Lord and of Gideon, v19-2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confusion, the Midianites slaughtered each other.  The rest ran, but were pursued.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22-2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48040" cy="3048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Victory (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:24 - 8: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ssage sent to Ephraimites 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op the Midianites passage over the Jordan Riv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ptured 2 leaders of the Midianites and cut off their heads, 24-2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, the Ephraimites complain, 8: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: Isn’t the gleaning of Ephraim better than the harvest of Abiezer?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lain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8:2-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rael oppressed by the Midianites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6:1-6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hovah hears Israel’s cry, v7-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Call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Destroys The Altar of Ba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dianites Gather Against Isra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d Gives Gideon Sig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Prepares His Arm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attle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7:19-23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Victory (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7:24 - 8:3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and the Midiani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rael oppressed by the Midianites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6:1-6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rael was evil in the sight of the Lord, v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 years of oppression, v1-3 &amp; 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ved in dens and caves, v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y poor people, v4 &amp; 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member the cycle - Judges 2:14-1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dianites – Who Were The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dian, Son of Abraham and Ketura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es fled to the land of Midi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es married Zipporah, a Midiani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ined Moab in trying to curse Isra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il influence on Israeli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rael slaughtered the Midianites earl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nd located in the western part of the Arabian desert; south of E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2900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Land of Mid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895480" y="5715000"/>
            <a:ext cx="914400" cy="83808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5715000"/>
            <a:ext cx="533520" cy="83808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Ophr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1600200"/>
            <a:ext cx="762120" cy="129528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1371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Valley of Jezr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200040" y="1905120"/>
            <a:ext cx="1600200" cy="91440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and the Midiani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:7-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hovah hears Israel’s cry, v7-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sent a proph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inds them of former deliveran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ngel of God called Gideon to save Israel, v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-15840"/>
            <a:ext cx="830592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– Who Was H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fth recorded judge 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ter called “Jerubbaal”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ngest son of Joash of the Abiezrites (tribe of Manasse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ved in Ophrah, probably in the territory of Issachar, west of the Jordan Ri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ighty man of valor (brave); humble; obedient; cautio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Call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:11-2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ngel of the Lord appeared to him, v11-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could not understand how a poor man like him could save Israel – humble, v15-1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asked for a sign – being cautious, v1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given a sign, v18-2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ilt altar as a memorial, v2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deon Destroys The Altar of Ba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Lord said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troy your father’s altar of Baal and to cut down the pole of Ashtarot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:2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ild an altar to God and offer your  father’s bullock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:2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obeys the Lord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:2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ty found Gideon responsible for damage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:28-3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ash challenged Baal to punish Gideon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:31-3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called “Jerubbaal” – “Baal fighter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9:43:27Z</dcterms:created>
  <dc:creator>Frank D Vines</dc:creator>
  <dc:description/>
  <dc:language>en-US</dc:language>
  <cp:lastModifiedBy>Terry Benton</cp:lastModifiedBy>
  <dcterms:modified xsi:type="dcterms:W3CDTF">2005-02-08T23:07:01Z</dcterms:modified>
  <cp:revision>26</cp:revision>
  <dc:subject/>
  <dc:title>Slide 1</dc:title>
</cp:coreProperties>
</file>